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ECB-0E1F-4BFA-B9A5-4D93897F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BB78-2EC1-42FA-89C2-D428443F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03E-D4BF-4CEC-9ADD-C1E915CF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A90-A0F9-4EC3-A98E-3C93D48E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33AC-E117-4526-9192-D11F394E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D05-B82E-4698-A184-8C3D6A14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755-007E-4858-8371-6ADABFD0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B507-0CB5-4C7B-B9A8-9FECE527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7BF-6ACD-4577-8A3E-F12A7B77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FC8-36E2-43B5-AE50-9EB1D6E8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2BC3-8B26-4A5C-B045-370394A1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74E-DE81-4483-92CF-59E03F05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9FA7-3333-492E-9376-B05A1C34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C98-6D93-4467-B19C-D65DE478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B65-9D02-40D9-AC72-3E2808C2F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1EB-E12F-4B43-940A-B4B4E215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82A-4A9B-4F95-A242-B9AD18B5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538-50FE-4034-AFFB-53381B83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1AC-B60B-4E9A-9C09-14FE70F88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625B-B285-4FD3-8FDD-32EA2BEF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2F49-5C68-495F-AE60-B7CB0B56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9DC-FA72-40B3-9E10-A8D2C4E65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2738-189F-4D33-8B61-C98DB550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F92-5EB4-43DC-9E55-7607AE23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3986-4EA2-4709-8B94-165F479E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544-0DB9-4F27-9A49-235339A4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3D7-E996-4FE7-9559-99150882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B93-9B10-45EB-9844-53E8DA8B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00C-DE3D-4E5E-8DD3-E8D38D52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4F4-1FE4-4D2B-93CF-DC3FC08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F26-C73B-4FF8-A50F-3630661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B36-8F09-4A29-A01B-0542146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192-B955-4B8F-B316-E49036B2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AC4-27F7-40A4-95A1-3FDD536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761-512C-4DF6-B0A0-A635500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FDF-E5F4-4ABC-B576-E6EA8F9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A5F-89A4-40D9-8CCD-A7BAA3E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B834-E578-4129-97E7-C473CB67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laliteracy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ITE: Striving for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xcellence in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Li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eracy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cher </a:t>
            </a:r>
            <a:r>
              <a:rPr b="0" lang="en-IE" sz="4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ucation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457200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elaliterac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ry.shiel@erc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UKLA – Literacy Content Knowled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he social context of literacy learn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the different patterns of literacy and different expectations of literacy learning in different social grou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he nature of the orthography involv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since, for example,  the complexity of English precludes a simple phonic entry to written langu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ing on scre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oth manipulation of text and also the changing relation of verbal text to images, both still and mov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ildren’s conceptions of themselves as reader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is materially influences how they approach the task and how effective they become as read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ing substantial whole tex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ing attention to the structure of texts of different genres, differences between written and spoken langu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itical literac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all those involved in literacy teaching should aim to help children towards becoming much more than consumers of writte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Competencies Are Important for Reading Teache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2876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knowledgeable in key aspects of reading literacy (content knowledge and pedagogic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characteristics of effective classroom environments and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herent, differentiated programme (sensitivity to individual dif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e student self-regulation (meta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skills teaching within a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hasise formative assessme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F53-202C-4473-BF2A-7567142CC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IRA Professional Development Standa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iagram of five standards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the most important competencies for reading teachers, and how do these vary across grade levels (kindergarten, lower-primary, upper-primary), languages, and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content of reading curricula in schools and how was this content decided on? What research informs us on how well this is tau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content of teacher education courses and how is this decided?  (e.g., government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Ques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at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 the relationship between coursework and fieldwork in reading teacher education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is preservice reading teacher education linked to induction and in-career development in participating countries? (Lifelong learning dimens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closely do governmental agencies specify the content and pedagogy of school literacy teaching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re teacher educations of litracy teachers trained for their jobs? Do they specialise in teaching reading or other areas (literature, language, wri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courses in teacher education have to meet detailed requirements from governmental agencies?  (Autonomy, ow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content and pedagogical knowledge of preservice reading teachers evalu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o the experiences of schools inform the preparation of teachers of read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ject Adore – Lessons Learn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ing Adolescent Struggling Readers – A Comparative Study of Good Practice in European Countries (Christine Gar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‘s Rights Perspective \ Legal entitlement to appropriate instruction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mphasis on affect (motivation /engag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Administrator &amp; External Advi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acher Development Study– Four-Level Mo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tional Education Systems as They Relate to Preparation of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Institutionally Intended Curricula and Competencies for Literacy Tea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Learning goals and conten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Literacy content knowledg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Pedagogical content knowledge for literacy teach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00000"/>
                </a:solidFill>
                <a:latin typeface="Arial"/>
              </a:rPr>
              <a:t>General pedagogic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Development Study– Four-Level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5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Teacher Educators’ Concepts and Beliefs about Key Aspects of Literacy Education and their Self-Efficacy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Perspectives of Schools on Reading Teacher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56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tential 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81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icula and Compet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 Educators’ Concepts and Beli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es of School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naire for Teacher Educa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s with School-based Personnel  who support new teachers to teach litera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d Questionnaire for ‘National Expert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s/Focus Groups w/ Teach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s/ Focus grou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xt of th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est in the issue among FELA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paration of reading teacher educators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emphasised in current international studies that include reading literacy (PIRLs, PI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urydice Studies of Teacher Education (2007) and  Teaching Reading Literacy (ongoing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long Learning Programme 2008-2010 Strategic Priorities – include literacy, teacher train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tive Analysis of Curricula and Programmes for Preparing Teachers of Lite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elines for Development of Pre-service Courses for Literacy Teacher Cour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encies for Teaching Aspects of Literacy (reading, writing, language, lit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studies on selected topics – e.g. Innovative practices; Developing literacy skills across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on selected topics – e.g. European  research on teaching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g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line:  Feb 26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on: Comenius Multilatera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jec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. Comenius Multilatera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number of countries = 3 (Project or 6 (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tion: Three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per year €150,000 but max of €300,000 (75% con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 of FELA? (Can’t be co-ordinating organ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for participation of some non-Lifelong Learning Programme countries (‘partner’ 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gistics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ing organisation/instit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ipating organisations? (combination of research institutes, universities engaged in teacher preparation in literacy, and national and international literacy associations with a focus on teach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ility of includ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ch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have a defined role in teacher prepa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orum for reflection and co-operation in identifying and promoting innovation and best practice in the thematic area conce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in activities to promote reflection and best practice in the thematic area concerned, including comparative analysis, case studies, organise seminars, working grou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 an annual meeting of Comenius projects working in the thematic area of the network (e.g., open seminar or confere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nius Multi-later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for Listening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xt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sbon Goal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Improving the Quality of Teacher Education. . . Reducing the Percentage of Students with Low Literacy Levels at age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logne Accord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Comparability of Qualifications acros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ni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specific reference to reading literacy in call for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ck of international resear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Study by IRA Reading Teacher Education Task Force – 3 of 298 published studies were non-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CCF6-51A0-4125-BB80-AAF70AC8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we know how to teach teachers of read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(Hoffman &amp; Pearson, 2000) . . . But research is prom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long as the outcomes can be specified and the context controlled, training serves our needs. .. . But the reality of teaching is one of constantly changing conditions with fairly abstract and even ambiguous 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flec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scurs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ialogic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C2BF-D402-4CE2-A9BF-77EBF76F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are teachers importa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eacher effectiveness has concluded that . 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are the single most important factor that determines students’ level of achievement (e.g., Berliner, 1994; Knapp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effective teachers share similar characteristics (International Reading Association, 2000; Ruddell, 199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 quality and expertise consistently and accurately predict achievement (Darling-Hammon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ritical Analysis of Research on Reading Teacher Edu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sis of 82 studies from a pool of 2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ing teacher preparation programmes have been successful in changing prospective teachers’ knowledge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vidence that pedagogical knowledge influenced teacher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sko et al. (2008)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ew suggests that university courses practices that benefits pedagogical knowledge inclu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explicit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demonstration of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pplication of  practice in practicum       settings with pup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ntensity of programmes adequ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quality of man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ypothesizing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400" y="1714680"/>
            <a:ext cx="3143160" cy="2071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cher Knowledge / Competencies/Self-effic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643280" y="1857240"/>
            <a:ext cx="2428920" cy="1068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room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357800" y="4000680"/>
            <a:ext cx="3571920" cy="15562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 Learning Outcomes / Growth in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7"/>
          <p:cNvCxnSpPr/>
          <p:nvPr/>
        </p:nvCxnSpPr>
        <p:spPr>
          <a:xfrm>
            <a:off x="3643200" y="2428920"/>
            <a:ext cx="92952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Straight Arrow Connector 10"/>
          <p:cNvCxnSpPr/>
          <p:nvPr/>
        </p:nvCxnSpPr>
        <p:spPr>
          <a:xfrm flipH="1">
            <a:off x="5714640" y="2999880"/>
            <a:ext cx="2160" cy="100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TextBox 11"/>
          <p:cNvSpPr/>
          <p:nvPr/>
        </p:nvSpPr>
        <p:spPr>
          <a:xfrm>
            <a:off x="428760" y="4429080"/>
            <a:ext cx="3357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rvice Teacher Training + Other Relevant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3"/>
          <p:cNvCxnSpPr>
            <a:stCxn id="70" idx="0"/>
          </p:cNvCxnSpPr>
          <p:nvPr/>
        </p:nvCxnSpPr>
        <p:spPr>
          <a:xfrm flipV="1">
            <a:off x="2105640" y="3786120"/>
            <a:ext cx="370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6EF-D470-4115-8E1A-B584D4A0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neral teaching competencies vs. Reading teacher competen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000080" y="2571840"/>
            <a:ext cx="6265800" cy="33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1763640" y="3573360"/>
            <a:ext cx="4537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43280" y="27147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teaching 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00360" y="4221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encies for teaching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219640" y="3645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eaching and Learn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1:16:08Z</dcterms:created>
  <dc:creator>Gerry Shiel</dc:creator>
  <dc:description/>
  <dc:language>en-US</dc:language>
  <cp:lastModifiedBy>Gerry Shiel</cp:lastModifiedBy>
  <dcterms:modified xsi:type="dcterms:W3CDTF">2010-07-20T17:09:18Z</dcterms:modified>
  <cp:revision>59</cp:revision>
  <dc:subject/>
  <dc:title>Slide 1</dc:title>
</cp:coreProperties>
</file>